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1E8D-052A-4E67-AD2E-0260A4FCD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8084-8115-45B1-B3E1-85085141DF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1AE-2B11-4DFC-857F-19C827A6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5E1-98FE-4B08-849B-B400BE69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386-3C6B-47ED-A587-9751B644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7E2-BD6A-4A05-ACD8-5EDB6E12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AAAE-F19A-4EB1-9619-469B717D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57BF-B193-4DA9-ADFE-CA6F361D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08C8-7E2E-43E1-ABCB-84958DEE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DD47-7590-483F-AD65-13D4A53B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ED53-D10F-4001-A3B2-763485F3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E8FB-05E7-4612-8B45-27FA05F4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2F8B-4859-4DEC-A354-D6EFF47D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8E0-3A04-4843-81FD-6D2569D1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B290-5413-4131-A9B4-91BBAE7C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08A0-8322-434D-B6B2-25CA20A8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383E5-A818-40B1-ABC9-F09FB34C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0A09-0EC3-454F-B7F4-47F434B9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3A68-4FE7-47CD-93EB-93784E22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F2E-C701-48EA-8A77-C98F27EA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935-7193-4B34-9125-99EBC0B2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A74-2DFD-4584-B1B5-FC55EBDD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5C4-79D4-4297-BFDC-0DB3B0DB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906-A65D-4BCC-879E-49704A60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A67-C724-4EAA-A280-5B0BFB73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A03-CF92-48BD-8DFB-330DECF0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8CC7-DD90-45F8-B3E7-6AB0AF4CB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buClr>
                  <a:srgbClr val="ffff00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17F0-5D50-4F1C-ACF5-20079A2FE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ПРОЦЕНА ФУНКЦИОНАЛНИХ И МОТОРИЧКИХ СПОСОБНОСТИ КОД ЛЕЗИЈА КИЧМЕНЕ МОЖДИНЕ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 u="sng">
                <a:solidFill>
                  <a:srgbClr val="ffff00"/>
                </a:solidFill>
                <a:uFillTx/>
                <a:latin typeface="Times New Roman"/>
              </a:rPr>
              <a:t>ПРЕГЛЕД</a:t>
            </a:r>
            <a:r>
              <a:rPr b="1" lang="hr-HR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sr-RS" sz="40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hr-HR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sr-RS" sz="4000" spc="-1" strike="noStrike" u="sng">
                <a:solidFill>
                  <a:srgbClr val="ffff00"/>
                </a:solidFill>
                <a:uFillTx/>
                <a:latin typeface="Times New Roman"/>
              </a:rPr>
              <a:t>ПРОЦЕНА</a:t>
            </a:r>
            <a:r>
              <a:rPr b="1" lang="hr-HR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sr-RS" sz="4000" spc="-1" strike="noStrike" u="sng">
                <a:solidFill>
                  <a:srgbClr val="ffff00"/>
                </a:solidFill>
                <a:uFillTx/>
                <a:latin typeface="Times New Roman"/>
              </a:rPr>
              <a:t>ЗА</a:t>
            </a:r>
            <a:r>
              <a:rPr b="1" lang="hr-HR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sr-RS" sz="4000" spc="-1" strike="noStrike" u="sng">
                <a:solidFill>
                  <a:srgbClr val="ffff00"/>
                </a:solidFill>
                <a:uFillTx/>
                <a:latin typeface="Times New Roman"/>
              </a:rPr>
              <a:t>РЕХАБИЛИТАЦИЈУ</a:t>
            </a:r>
            <a:r>
              <a:rPr b="1" lang="hr-HR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sr-RS" sz="4000" spc="-1" strike="noStrike" u="sng">
                <a:solidFill>
                  <a:srgbClr val="ffff00"/>
                </a:solidFill>
                <a:uFillTx/>
                <a:latin typeface="Times New Roman"/>
              </a:rPr>
              <a:t>У</a:t>
            </a:r>
            <a:r>
              <a:rPr b="1" lang="hr-HR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sr-RS" sz="4000" spc="-1" strike="noStrike" u="sng">
                <a:solidFill>
                  <a:srgbClr val="ffff00"/>
                </a:solidFill>
                <a:uFillTx/>
                <a:latin typeface="Times New Roman"/>
              </a:rPr>
              <a:t>АКУТНОЈ</a:t>
            </a:r>
            <a:r>
              <a:rPr b="1" lang="hr-HR" sz="40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sr-RS" sz="4000" spc="-1" strike="noStrike" u="sng">
                <a:solidFill>
                  <a:srgbClr val="ffff00"/>
                </a:solidFill>
                <a:uFillTx/>
                <a:latin typeface="Times New Roman"/>
              </a:rPr>
              <a:t>ФАЗИ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Неопходан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општи</a:t>
            </a:r>
            <a:r>
              <a:rPr b="1" lang="hr-HR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еглед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укључујући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респираторну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функцију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мишићну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нагу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стање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коже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Резултати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прегледа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омогућавају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терапеуту</a:t>
            </a:r>
            <a:r>
              <a:rPr b="1" lang="hr-HR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процену</a:t>
            </a: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нивоа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лезије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дефинисање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пштих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функционалних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очекивања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формулисање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декватних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терапијских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циљ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 u="sng">
                <a:solidFill>
                  <a:srgbClr val="ffff00"/>
                </a:solidFill>
                <a:uFillTx/>
                <a:latin typeface="Times New Roman"/>
              </a:rPr>
              <a:t>Процена</a:t>
            </a:r>
            <a:r>
              <a:rPr b="1" lang="hr-HR" sz="4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sr-RS" sz="4800" spc="-1" strike="noStrike" u="sng">
                <a:solidFill>
                  <a:srgbClr val="ffff00"/>
                </a:solidFill>
                <a:uFillTx/>
                <a:latin typeface="Times New Roman"/>
              </a:rPr>
              <a:t>пацијената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неуролошка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процена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нивоа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оштећењ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степен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комплетности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лезије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кичмене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мождин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одређивање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моторних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сензорних</a:t>
            </a:r>
            <a:r>
              <a:rPr b="0" lang="hr-H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Times New Roman"/>
              </a:rPr>
              <a:t>скоро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ff00"/>
                </a:solidFill>
                <a:latin typeface="Times New Roman"/>
              </a:rPr>
              <a:t>Неуролошки</a:t>
            </a:r>
            <a:r>
              <a:rPr b="1" lang="hr-HR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4000" spc="-1" strike="noStrike">
                <a:solidFill>
                  <a:srgbClr val="ffff00"/>
                </a:solidFill>
                <a:latin typeface="Times New Roman"/>
              </a:rPr>
              <a:t>ниво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14600" y="15998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 u="sng">
                <a:solidFill>
                  <a:srgbClr val="ffffff"/>
                </a:solidFill>
                <a:uFillTx/>
                <a:latin typeface="Times New Roman"/>
              </a:rPr>
              <a:t>моторни</a:t>
            </a:r>
            <a:r>
              <a:rPr b="1" lang="hr-HR" sz="4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4000" spc="-1" strike="noStrike" u="sng">
                <a:solidFill>
                  <a:srgbClr val="ffffff"/>
                </a:solidFill>
                <a:uFillTx/>
                <a:latin typeface="Times New Roman"/>
              </a:rPr>
              <a:t>нив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 u="sng">
                <a:solidFill>
                  <a:srgbClr val="ffffff"/>
                </a:solidFill>
                <a:uFillTx/>
                <a:latin typeface="Times New Roman"/>
              </a:rPr>
              <a:t>сензитивни</a:t>
            </a:r>
            <a:r>
              <a:rPr b="1" lang="hr-HR" sz="4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4000" spc="-1" strike="noStrike" u="sng">
                <a:solidFill>
                  <a:srgbClr val="ffffff"/>
                </a:solidFill>
                <a:uFillTx/>
                <a:latin typeface="Times New Roman"/>
              </a:rPr>
              <a:t>нив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 u="sng">
                <a:solidFill>
                  <a:srgbClr val="ffffff"/>
                </a:solidFill>
                <a:uFillTx/>
                <a:latin typeface="Times New Roman"/>
              </a:rPr>
              <a:t>скелетни</a:t>
            </a:r>
            <a:r>
              <a:rPr b="1" lang="hr-HR" sz="4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4000" spc="-1" strike="noStrike" u="sng">
                <a:solidFill>
                  <a:srgbClr val="ffffff"/>
                </a:solidFill>
                <a:uFillTx/>
                <a:latin typeface="Times New Roman"/>
              </a:rPr>
              <a:t>нив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00"/>
                </a:solidFill>
                <a:latin typeface="Times New Roman"/>
              </a:rPr>
              <a:t>ФИЗИОТЕРАПЕУТСКА ПРОЦЕН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УНКЦИОНАЛНИ СТАТУС ПОДРАЗУМЕВА ПРОЦЕНУ ТЕРАПЕУТА О СТАЊУ ПАЦИЈЕНТА НА ОСНОВУ ЧЕГА СЕ ПРАВИ ТЕРАПЕУТСКИ ПРОГР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00"/>
                </a:solidFill>
                <a:latin typeface="Times New Roman"/>
              </a:rPr>
              <a:t>ФИЗИОТЕРАПЕУТСКА ПРОЦЕН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на главе и врата: процењу је покретљивост, снага, запажања терапеу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на ГЕ: процена снаге мишића ММТ, процена тонуса, мишићне еластичности, дефомација, обима и дужине екстреми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на трупа: мишићне снаге, еластичност,тонус, дефомација и постојање дисбалан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00"/>
                </a:solidFill>
                <a:latin typeface="Times New Roman"/>
              </a:rPr>
              <a:t>ФИЗИОТЕРАПЕУТСКА ПРОЦЕН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на ДЕ: тонус (ако је спастична одузетост, процена спастичности), мишићне групе које су захваћене, ако постоји млитава одузетост, ММТ (код делимичне одузетости), еластичност, покретљивост зглобова, дефомитете, обим и дужина екстемите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на виталног капацит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на сензибилитета, рефлек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на трансфера, балан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кон тога постављање  ктх програ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 осетљивост треба обострано тестирати следеће сензитивне кључне тачке: </a:t>
            </a:r>
            <a:br>
              <a:rPr sz="2000"/>
            </a:b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Сензитивне кључне тачке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- Okcipit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n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rotuber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ci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ја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3- Supr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l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ikul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 ј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4- Vrh 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romiokl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ikul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nog zglob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5- Spolj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šnj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tr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rekubit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ne 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ј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e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6- P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 - dorz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tr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 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7- Srednji prst - dorz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tr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8- M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i prst - dorz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tr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1- Medi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ј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ul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)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tr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prekubit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ne 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ј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e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2- Vrh 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ksile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3- Treći medjureb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ni prostor - mediokl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vikul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ini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ја 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7- Sedmi medjureb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ni prostor (sredi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zmedju T6 i T7)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8- Osmi medjureb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ni prostor (sredi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zmedju T6 i T10)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9- Deveti medjureb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ni prostor (sredi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zmedju T8 i T10)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10- Deseti medjureb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ni prostor (umbilicus)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11- 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d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sti medjureb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ni prostor (sredi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zmedju T10 i T12)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12- Središni deo ingvin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nog lig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ent</a:t>
            </a: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br>
              <a:rPr sz="2000"/>
            </a:br>
            <a:r>
              <a:rPr b="0" i="1" lang="sr-R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За осетљивост треба обострано тестирати следеће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сензитивне кључне тачке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047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1- Pol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ist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ce izmedju T12 i L2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2- Sredin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rednjeg del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3- Medi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ј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ni femor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ni kondil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4- Medi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ј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ni m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olus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5- Dorzum stop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 predelu trećeg met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z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nog  f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ge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nog zglob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1- L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r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n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r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ete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2- Središn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ni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ја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oplite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ne 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ј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e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3- Tuberozit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 ishi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ј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ne kosti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4-S5 - Peri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n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gi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ја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uzet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dn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bl</a:t>
            </a:r>
            <a:r>
              <a:rPr b="0" i="1" lang="sr-R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Times New Roman"/>
              </a:rPr>
              <a:t>Неопходни елементи моторног испитивања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9903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торно испитивање се обавља тестирањем 10 парова кључних мишића (5 за горње и 5 за доње екстремитете). Мишићи се испитују у цефало - каудалном смеру. Снага сваког мишића се мери на шестостепеној скали према мануелном мишићном тесту. Следеће мишиће треба испитати и оценит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5 - Fleksori podl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tice: m.biceps brachii, m. brachial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6 - Ekstenzori  š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e: m.ext.carpi radialis longus et brev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7 - Ekstenzori podl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tice: m.triceps brachi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8 - Fleksori prsti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: m.flex.dig.profund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1 - 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uktori m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g prst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.abd.dig.minim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2 - Fleksori n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kolenice: m.iliopso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3 - Ekstenzori potkolenice: m.quadricep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4 - Dorzifleksori stop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.tibialis anteri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5 - Dugi ekstenzor p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c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.ext.hallucis long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1 - Pl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t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ni fleksor stop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</a:rPr>
              <a:t>а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.triceps su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НЕУРОЛОШКА ПРОЦЕНА КОМПЛЕТНОСТИ ЛЕЗИЈЕ К.М.</a:t>
            </a:r>
            <a:br>
              <a:rPr sz="60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еуролошка процена лезије к.м. подразумева и процену комплетности лезије. Према томе лезија к.м. може бит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комплет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комплет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KOM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ЛЕТНА ЛЕЗИЈА К.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мплетну лезију констатујемо када не постоји очувана ни сензитивна ни моторна функција у најнижим сакралним сегментима к.м. (</a:t>
            </a:r>
            <a:r>
              <a:rPr b="0" i="1" lang="sr-CS" sz="2400" spc="-1" strike="noStrike">
                <a:solidFill>
                  <a:srgbClr val="ffffff"/>
                </a:solidFill>
                <a:latin typeface="Times New Roman"/>
              </a:rPr>
              <a:t>S4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sr-CS" sz="2400" spc="-1" strike="noStrike">
                <a:solidFill>
                  <a:srgbClr val="ffffff"/>
                </a:solidFill>
                <a:latin typeface="Times New Roman"/>
              </a:rPr>
              <a:t>S5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). Зато је анални сфинктер пресудан део испитивања лезије к.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јтежи облик оштећења  је прекид кичмене мождине  због прелома или луксације кичмених пршљен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торни и сензитивни испади  су увек испод места повре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рвикалне лезије доводе до настанка лакшег облика оштећења  квадрипарезе и тежег облика квадриплегиј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ракалне и лумбалне лезије доводе до настанка лакше облика парапарезе и тежег облика параплегиј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2. ИН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KOM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ПЛЕТНА ЛЕЗИЈА К.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нкомплетну лезију конс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тујемо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ко постоји било каква очуваност сензитивних или моторних функција испод неуролошког нивоа која укључује и најниже сакралне сегменте (</a:t>
            </a:r>
            <a:r>
              <a:rPr b="0" i="1" lang="sr-CS" sz="3200" spc="-1" strike="noStrike">
                <a:solidFill>
                  <a:srgbClr val="ffffff"/>
                </a:solidFill>
                <a:latin typeface="Times New Roman"/>
              </a:rPr>
              <a:t>S4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sr-CS" sz="3200" spc="-1" strike="noStrike">
                <a:solidFill>
                  <a:srgbClr val="ffffff"/>
                </a:solidFill>
                <a:latin typeface="Times New Roman"/>
              </a:rPr>
              <a:t>S5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Степен комплетности лезије к.м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. одређује се уз помоћ модификоване Френкелове скале (</a:t>
            </a:r>
            <a:r>
              <a:rPr b="1" i="1" lang="sr-Latn-CS" sz="3200" spc="-1" strike="noStrike">
                <a:solidFill>
                  <a:srgbClr val="ffffff"/>
                </a:solidFill>
                <a:latin typeface="Times New Roman"/>
              </a:rPr>
              <a:t>Frankel Scale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) која има пет степени градације </a:t>
            </a:r>
            <a:r>
              <a:rPr b="1" i="1" lang="sr-C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sr-Latn-CS" sz="3200" spc="-1" strike="noStrike">
                <a:solidFill>
                  <a:srgbClr val="ffffff"/>
                </a:solidFill>
                <a:latin typeface="Times New Roman"/>
              </a:rPr>
              <a:t>A, B, C, D, E</a:t>
            </a:r>
            <a:r>
              <a:rPr b="1" i="1" lang="sr-C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85800" y="7617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0000"/>
                </a:solidFill>
                <a:latin typeface="Times New Roman"/>
              </a:rPr>
              <a:t>ASIA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 СКАЛА ОШТЕЋЕЊА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American SpinalInjuryAssociation)</a:t>
            </a:r>
            <a:r>
              <a:rPr b="0" lang="sr-C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0" lang="sr-CS" sz="18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комплетно оштећење (не постоји очуваност ни моторних ни сензитивних функција у сакралним сегментима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sr-CS" sz="1800" spc="-1" strike="noStrike">
                <a:solidFill>
                  <a:srgbClr val="ffffff"/>
                </a:solidFill>
                <a:latin typeface="Times New Roman"/>
              </a:rPr>
              <a:t>S4-S5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sr-CS" sz="18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нкомплетно оштећење (очуван је само сензибилитет испод неуролошког нивоа обухватајући и последње сакралне сегменте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sr-CS" sz="1800" spc="-1" strike="noStrike">
                <a:solidFill>
                  <a:srgbClr val="ffffff"/>
                </a:solidFill>
                <a:latin typeface="Times New Roman"/>
              </a:rPr>
              <a:t>S4-S5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0000"/>
                </a:solidFill>
                <a:latin typeface="Times New Roman"/>
              </a:rPr>
              <a:t>С</a:t>
            </a:r>
            <a:r>
              <a:rPr b="0" lang="sr-CS" sz="18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нкомплетно оштећење (моторна функција је очувана испод неуролошког нивоа. Већина кључних мишића, више од пола, испод нивоа лезије је испод оцене 3 према ММТ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sr-CS" sz="18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инкомплетно оштећење (моторна функција је очувана испод неуролошког нивоа. Већина кључних мишића испод неуролошког нивоа је за оцену 3 или већу према ММ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sr-CS" sz="1800" spc="-1" strike="noStrike">
                <a:solidFill>
                  <a:srgbClr val="ff0000"/>
                </a:solidFill>
                <a:latin typeface="Times New Roman"/>
              </a:rPr>
              <a:t> -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нормалан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налаз (моторна и сензитивна функција су нормалне). Односи се на особе које су имале повреду к.м. са неуролошким дефицитом који не може да се открије овом врстом испитивања. Моторно и сензитивно процењивање предвиђено стандардима, не обухвата веома малу мишићну слабост, присуство спазма, бола као и извесних форми дизестезије који су последица лезије к.м. Особе са оваквим оштећењима се сврставају под </a:t>
            </a:r>
            <a:r>
              <a:rPr b="0" i="1" lang="sr-Latn-CS" sz="1800" spc="-1" strike="noStrike">
                <a:solidFill>
                  <a:srgbClr val="ffffff"/>
                </a:solidFill>
                <a:latin typeface="Times New Roman"/>
              </a:rPr>
              <a:t>ASIA-</a:t>
            </a:r>
            <a:r>
              <a:rPr b="0" i="1" lang="sr-CS" sz="1800" spc="-1" strike="noStrike">
                <a:solidFill>
                  <a:srgbClr val="ffffff"/>
                </a:solidFill>
                <a:latin typeface="Times New Roman"/>
              </a:rPr>
              <a:t> 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Функционални тестов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циљу функционалне процене користимо стандардизоване функционалне тестов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M (Functional Independence Measure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IF (Quadriplegia Index of Function)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M (Spinal Cord Independence Measure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00"/>
                </a:solidFill>
                <a:latin typeface="Times New Roman"/>
              </a:rPr>
              <a:t>Тестови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Times New Roman"/>
              </a:rPr>
              <a:t>за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Times New Roman"/>
              </a:rPr>
              <a:t>процену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Times New Roman"/>
              </a:rPr>
              <a:t>функционалне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Times New Roman"/>
              </a:rPr>
              <a:t>способности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ffff00"/>
                </a:solidFill>
                <a:latin typeface="Times New Roman"/>
              </a:rPr>
              <a:t>параплегичара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3200" spc="-1" strike="noStrike">
                <a:solidFill>
                  <a:srgbClr val="ffff00"/>
                </a:solidFill>
                <a:latin typeface="Times New Roman"/>
              </a:rPr>
              <a:t>квадриплегичара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599840"/>
            <a:ext cx="77724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ункционана способност ових пацијената зависи од нивоа лезије и очуваности мускулатур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бјективизација функционалног стања ових пацијената се може спроводити у свакој фази опорав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јпознатији и најпоузданији тестови с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arthel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de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s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IM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IF (Quadriplegia Index of Function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ст је строго специфичан. Користи се искључиво за процену функционалних могућности пацијената са квадриплегиј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зајниран је тако да региструје и мале, али клинички значајне и релевантне промене у функционалним способностима пацијената са тетраплегиј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IF (Quadriplegia Index of Function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стоји се од 10 сегмената, односно 10 група активности у оквиру активности свакодневног живот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цењивање се врши оценама од 0 до 4. Максимални могући скор износи 200 пое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QIF</a:t>
            </a:r>
            <a:r>
              <a:rPr b="1" lang="sr-CS" sz="4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test (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Quadriplegia index of function)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9480" y="828720"/>
          <a:ext cx="7772400" cy="5648400"/>
        </p:xfrm>
        <a:graphic>
          <a:graphicData uri="http://schemas.openxmlformats.org/drawingml/2006/table">
            <a:tbl>
              <a:tblPr/>
              <a:tblGrid>
                <a:gridCol w="2743200"/>
                <a:gridCol w="1257480"/>
                <a:gridCol w="1257120"/>
                <a:gridCol w="1257480"/>
                <a:gridCol w="1257120"/>
              </a:tblGrid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nsfer(16 po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evet-ko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lica-krev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lica-toal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alet-ko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lica-aut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-ko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lica-tuš/k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š/kada-kol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krevet(20 poen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inacija-pronac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inacija-sedeći položa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inacija-b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 boka na b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vnotež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114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762120"/>
          <a:ext cx="7924680" cy="5648040"/>
        </p:xfrm>
        <a:graphic>
          <a:graphicData uri="http://schemas.openxmlformats.org/drawingml/2006/table">
            <a:tbl>
              <a:tblPr/>
              <a:tblGrid>
                <a:gridCol w="3657600"/>
                <a:gridCol w="1066680"/>
                <a:gridCol w="1067040"/>
                <a:gridCol w="1066680"/>
                <a:gridCol w="1066680"/>
              </a:tblGrid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ična higijena(12 poen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 zub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šljanje ko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otreba tampona(žen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janje(muškarc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oblačenje(2</a:t>
                      </a:r>
                      <a:r>
                        <a:rPr b="1" lang="sr-C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poen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ačenje gornjih delova odeć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lačenje gornjih delova odeć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ačenje donjih delova odeć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lačenje donjih delova odeć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ačenje toplih gornjih delova odeć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lačenje toplih gornjih delova odeć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ačenje/svlačenje čara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uvanje/izuvanje cipe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kopčavanj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14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09480" y="477720"/>
          <a:ext cx="7772400" cy="6391440"/>
        </p:xfrm>
        <a:graphic>
          <a:graphicData uri="http://schemas.openxmlformats.org/drawingml/2006/table">
            <a:tbl>
              <a:tblPr/>
              <a:tblGrid>
                <a:gridCol w="3810240"/>
                <a:gridCol w="990360"/>
                <a:gridCol w="990720"/>
                <a:gridCol w="990720"/>
                <a:gridCol w="990360"/>
              </a:tblGrid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shrana(24 poen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jenje iz šolje/čaš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otreba kašike/viljušk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čenje hrane/m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panje teč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varanje tetrapaka/teg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zanje na hle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prema jednostavnih je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avljanje pomaga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kolica(28 poen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ilazak kriv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žnja unaz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ksiranje kočn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žnja po neravnom teren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žnja na uzbrdic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retanje/nameštanje u kolici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vnoteža u sedećem položaj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04920" y="2286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араплегиј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је одузетост настала након оштећења торакалних или лумбалних сегмената кичмене мождине, конус медулариса или кауде еквин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вадриплегиј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је одузетост настала након оштећења вратних сегмената кич.мождин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(C1-Th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114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762120"/>
          <a:ext cx="7772400" cy="4905360"/>
        </p:xfrm>
        <a:graphic>
          <a:graphicData uri="http://schemas.openxmlformats.org/drawingml/2006/table">
            <a:tbl>
              <a:tblPr/>
              <a:tblGrid>
                <a:gridCol w="4191120"/>
                <a:gridCol w="895320"/>
                <a:gridCol w="895320"/>
                <a:gridCol w="895320"/>
                <a:gridCol w="895320"/>
              </a:tblGrid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kupanje ( 8 poen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/brisanje gornjih delova te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/brisanje donjih delova te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/brisanje stopal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/brisanje k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ažnjenje bešike(28 poen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jno pražnjenje-toal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jno pražnjenje-guska/lop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na beši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e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vremeni kate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lni katet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ealna beši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114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762120"/>
          <a:ext cx="7925040" cy="4119480"/>
        </p:xfrm>
        <a:graphic>
          <a:graphicData uri="http://schemas.openxmlformats.org/drawingml/2006/table">
            <a:tbl>
              <a:tblPr/>
              <a:tblGrid>
                <a:gridCol w="4040280"/>
                <a:gridCol w="620640"/>
                <a:gridCol w="1089000"/>
                <a:gridCol w="1087560"/>
                <a:gridCol w="1087560"/>
              </a:tblGrid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ažnjenje creva(24 poena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tna kontrola-toal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letna kontrola-lop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no pražnjenje-toal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italno pražnjenje-lopata/krev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/meh/stimulacija-toal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g./meh. stimulacija-lopata/krev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ozitorija-krev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ozitorija-lopa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1144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762120"/>
          <a:ext cx="8229600" cy="4533840"/>
        </p:xfrm>
        <a:graphic>
          <a:graphicData uri="http://schemas.openxmlformats.org/drawingml/2006/table">
            <a:tbl>
              <a:tblPr/>
              <a:tblGrid>
                <a:gridCol w="5083200"/>
                <a:gridCol w="785880"/>
                <a:gridCol w="787320"/>
                <a:gridCol w="785880"/>
                <a:gridCol w="787320"/>
              </a:tblGrid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briga o sebi(2</a:t>
                      </a:r>
                      <a:r>
                        <a:rPr b="1" lang="sr-C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poena)-max.ocena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kož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jeta/ishra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kov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re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im pokre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na disrefle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kcija gornjih disajnih putev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kcija urinarnog trak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omboza dubokih ve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bijanje humanitarnih uslu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ukupan broj bodo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Ocene za aktivnosti iz svake oblasti su od 0-4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4920" y="990720"/>
          <a:ext cx="8534160" cy="4111560"/>
        </p:xfrm>
        <a:graphic>
          <a:graphicData uri="http://schemas.openxmlformats.org/drawingml/2006/table">
            <a:tbl>
              <a:tblPr/>
              <a:tblGrid>
                <a:gridCol w="1641240"/>
                <a:gridCol w="6892920"/>
              </a:tblGrid>
              <a:tr h="447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c e n 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ogućnosti izvodjenja aktivnos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marL="380880" algn="just">
                        <a:tabLst>
                          <a:tab algn="l" pos="0"/>
                          <a:tab algn="l" pos="10190016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puna nezavisnost, bez upotrebe pomaga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marL="3808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zavisnost uz upotrebu pomagala nepotrebno nadgledanje, pacijent može sam da stavi pomaga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marL="3808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no samo nadgledanje sa ili bez fizičkog kontakta,ne zahteva podizanje od strane druge oso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marL="3808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fizički kontakt ,uključujući podizanje pacijenta ili dela pacijentovog tela od strane samo jedne oso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marL="3808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puna zavisnost,pacijent nije u stanju da izvede traženu aktivn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</a:tbl>
          </a:graphicData>
        </a:graphic>
      </p:graphicFrame>
      <p:sp>
        <p:nvSpPr>
          <p:cNvPr id="163" name="Rectangle 4"/>
          <p:cNvSpPr/>
          <p:nvPr/>
        </p:nvSpPr>
        <p:spPr>
          <a:xfrm>
            <a:off x="838080" y="525780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Укупан број бодова на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QIF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kali</a:t>
            </a: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 је 200. Свака активност се бодује понаособ од 0-4. Област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 трансфер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“ </a:t>
            </a: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и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“ </a:t>
            </a: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кревет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“ </a:t>
            </a: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изискује потребу бодовања такође понаособ, али се збир дели са два и добија заједничка оцена за две суседне активности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Times New Roman"/>
              </a:rPr>
              <a:t>КРАТКА ФОРМА КИФ ТЕСТА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driplegia Index of Function-Short Form</a:t>
            </a:r>
            <a:r>
              <a:rPr b="0" lang="sr-R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Код повреда кичмене мождине за функционалну процену квадриплегичара можемо да користимо и кратку форму КИФ тес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астоји од 6 ставки,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свака се бодује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на скали од 0-4. Клиничар посматра и процењује пацијента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свакој ставц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Максималан број поена је 24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Times New Roman"/>
              </a:rPr>
              <a:t>КРАТКА ФОРМА КИФ ТЕСТА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uadriplegia Index of Function-Short Form</a:t>
            </a:r>
            <a:r>
              <a:rPr b="0" lang="sr-R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Бодовање: 4 = независ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н;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3 = независ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са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помагалом;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2 = надзор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1 = физичка помоћ 0 = завис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</a:rPr>
              <a:t>ан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6 ставк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прати / осушити кос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кренит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 леђа на страну у кревет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бу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</a:rPr>
              <a:t>ци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 одећ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4. 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творите посуду (храњење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</a:rPr>
              <a:t>транфер 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из кревета у столиц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6. 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</a:rPr>
              <a:t>з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акљу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</a:rPr>
              <a:t>чати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</a:rPr>
              <a:t> инвалидска кол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F.I.M. test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Funkcional Independence Measure)</a:t>
            </a:r>
            <a:br>
              <a:rPr sz="3600"/>
            </a:br>
            <a:r>
              <a:rPr b="0" lang="sr-CS" sz="3600" spc="-1" strike="noStrike">
                <a:solidFill>
                  <a:srgbClr val="ffff00"/>
                </a:solidFill>
                <a:latin typeface="Times New Roman"/>
              </a:rPr>
              <a:t>Тест функционалне независности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53452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 1984 године ФИМ тест је уведен у свим већим светским центрима као тест за општу процену функционалних могућности особа са неуролошким оштећењим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ст је погодан за праћење ефикасности терапијских процедура и има могућност упоређивања одређених параматера на врло прегледан начи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M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Functional Independence Measur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ниверзални тест и користи се за процену степена функционалне независности пацијената са неуролошким оштећењим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ља најчешће коришћени тест за процену функционалних способности код пацијената са спиналном лезиј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едности овог теста су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његовој једноставности, садржи мали број података, свеобухватан је и омогућава брзу процену и оријентациј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едостаци ФИМ тест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 у његовој недовољној прецизности и осетљивости на минималне промене у функционалном статусу пацијената са спиналном лезиј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M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Functional Independence Measur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стоји од 6 сегмената из области функционисања пацијента у свакодневном животу, и то: самозбрињавање, контрола сфинктера, трансфери, локомоција, комуникација и социјализациј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оквиру ових 6 сегмената пацијенти се тестирају кроз 18 задатака. Оцењивање се врши оценама од 1 до 7 у зависности од степена независности пацијент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ксимални скор на тесту износи 126 пое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M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Functional Independence Measur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редност ових тестова је да се могу применити како код можданих тако и код спиналних оштећењ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лажемо да оба ова теста постану саставни део рутинске обраде пацијената на рехабилитацији (на почетку и крају третман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Узроци  настанка квадриплегија и параплегиј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повреде кичменог стуба и кичмене мождине (преломи или луксације пршљенова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бенигни и малигни тумори 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васкуларна обољењ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инфекције (бактеријске,вирусн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неуролошка обољења (трансверзални мијелитис, мултипла склероза, сирингоми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елиј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урођене малформације кичмене мождин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76320"/>
            <a:ext cx="8435880" cy="67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FIM </a:t>
            </a:r>
            <a:r>
              <a:rPr b="1" lang="sr-RS" sz="4000" spc="-1" strike="noStrike" u="sng">
                <a:solidFill>
                  <a:srgbClr val="ffff00"/>
                </a:solidFill>
                <a:uFillTx/>
                <a:latin typeface="Times New Roman"/>
              </a:rPr>
              <a:t>тест</a:t>
            </a: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Funkcional Indepedence Measur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IM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тест обухвата 6 области у оквиру којих има 18 питањ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Самозбриња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исхр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лична хигије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куп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облачење горњег дела одећ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облачење доњег дела одећ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тоал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I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онтрола сфинкт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пражњење беши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пражњење дебелог цр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30592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II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обилност – трансфер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кревет, столица, кол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тоал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када,ту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IV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рет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ход, кол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Степениц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омуникац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разуме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изражавањ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Социјализација и когнитивне функци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интерреакција са околин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мемор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решавање пробле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спровођење рехабилитационог  пограма неопходно је ангазовање свих чланова рехабилитационог тим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зијатр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зио и радног терапеут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дицинске сестр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а 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јалног радн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ffff00"/>
                </a:solidFill>
                <a:latin typeface="Times New Roman"/>
              </a:rPr>
              <a:t>Кичмена</a:t>
            </a:r>
            <a:r>
              <a:rPr b="0" lang="sr-Latn-C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RS" sz="4000" spc="-1" strike="noStrike">
                <a:solidFill>
                  <a:srgbClr val="ffff00"/>
                </a:solidFill>
                <a:latin typeface="Times New Roman"/>
              </a:rPr>
              <a:t>мождина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52320" y="1676520"/>
            <a:ext cx="5791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657600" y="990720"/>
            <a:ext cx="457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ичмена мождина пружа се од горње ивице атласа до мећупршљенског дискуса измећу 1 и 2 лумбалног пршље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д одраслих је дуга 42 до 45 ц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оњи део је зашиљен у конус медуларис, а даље се пружају филум терминал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 u="sng">
                <a:solidFill>
                  <a:srgbClr val="ffff00"/>
                </a:solidFill>
                <a:uFillTx/>
                <a:latin typeface="Times New Roman"/>
              </a:rPr>
              <a:t>Клиничка</a:t>
            </a:r>
            <a:r>
              <a:rPr b="1" lang="sr-Latn-CS" sz="4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sr-RS" sz="4800" spc="-1" strike="noStrike" u="sng">
                <a:solidFill>
                  <a:srgbClr val="ffff00"/>
                </a:solidFill>
                <a:uFillTx/>
                <a:latin typeface="Times New Roman"/>
              </a:rPr>
              <a:t>слика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</a:rPr>
              <a:t>Одмах после оштећења јавља се: хипотонија (дијашисис), услед спиналног шок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</a:rPr>
              <a:t>Клинички се карактерише млитавом одузетошћу свих мишића испод места лезије, губитком сензибилитета, парализом свих вегетатвних функција, поремећај функције дебелог црева и бешике, трофичке промене, развој декуби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</a:rPr>
              <a:t>Ова фаза траје 3-4 недеље, до неколико месец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RS" sz="2800" spc="-1" strike="noStrike">
                <a:solidFill>
                  <a:srgbClr val="ffffff"/>
                </a:solidFill>
                <a:latin typeface="Times New Roman"/>
              </a:rPr>
              <a:t>ретко може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sr-RS" sz="2800" spc="-1" strike="noStrike">
                <a:solidFill>
                  <a:srgbClr val="ffffff"/>
                </a:solidFill>
                <a:latin typeface="Times New Roman"/>
              </a:rPr>
              <a:t>трајно да се одржа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астичност – касније, најдаље у периоду од 6 недељ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инички се карактериш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ећењем рефлексне активности очуване кичмене мождине испод места оштећеј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јачани су МТР и тонус, рефлекси пражњења мокраћне бешике и дебелог црева и тонус флексо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отпуни прекид кичмене мождине доводи до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5238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sr-R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моторних оштећења-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немогућност извођења вољних покрета у деловима тела који моторну инервацију добијају испод нивоа лез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RS" sz="2800" spc="-1" strike="noStrike" u="sng">
                <a:solidFill>
                  <a:srgbClr val="ff0000"/>
                </a:solidFill>
                <a:uFillTx/>
                <a:latin typeface="Times New Roman"/>
              </a:rPr>
              <a:t>сензитивних оштећења-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потпуни испад површног сензибилитета , губитак осећаја за додир, за бол, за температуру, потпуно или делимично оштећен и дубоки сензибилитет за све квалитет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sr-R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егетативна оштећења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</a:rPr>
              <a:t>– поремећај функције мокраћне бешике, деб.црева, сексуалних функција, , функција вазомотора, дисања и секреције знојних жлез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 u="sng">
                <a:solidFill>
                  <a:srgbClr val="ffff00"/>
                </a:solidFill>
                <a:uFillTx/>
                <a:latin typeface="Times New Roman"/>
              </a:rPr>
              <a:t>ДИСФУНКЦИЈЕ</a:t>
            </a:r>
            <a:r>
              <a:rPr b="1" lang="sr-Latn-CS" sz="4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sr-RS" sz="48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sr-Latn-CS" sz="4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sr-RS" sz="4800" spc="-1" strike="noStrike" u="sng">
                <a:solidFill>
                  <a:srgbClr val="ffff00"/>
                </a:solidFill>
                <a:uFillTx/>
                <a:latin typeface="Times New Roman"/>
              </a:rPr>
              <a:t>КОМПЛИКАЦИЈЕ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спирато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сист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диоваскул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ст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ринарн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к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строинтестин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ж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шт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глоб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ст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рвн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ст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19:39:00Z</dcterms:created>
  <dc:creator>Tomica</dc:creator>
  <dc:description/>
  <dc:language>en-US</dc:language>
  <cp:lastModifiedBy>Windows User</cp:lastModifiedBy>
  <dcterms:modified xsi:type="dcterms:W3CDTF">2020-02-12T10:08:30Z</dcterms:modified>
  <cp:revision>233</cp:revision>
  <dc:subject/>
  <dc:title>LEČENJE HELICOBACTER PYLORI INFEKCIJE</dc:title>
</cp:coreProperties>
</file>